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6CC-343C-446C-AF37-A55BC657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421-9826-4AEC-B127-7B3660C7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3CB-971F-41B9-9777-937F6045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CCD-F223-4E21-8D5B-C83C0DE5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2917-3B01-41E8-8D5A-152AC958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A624-5BFF-420A-A084-C84CCC4A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1D2C-F94B-47B4-BEB1-972153B4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B578-28D2-43B4-A74D-79E83B15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56D7-E39B-4359-9CDF-E52C4E60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F375-2789-40E0-8917-9E8FB076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ED96-0C9E-4381-994E-9D073417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54E-2663-43B2-B46F-1F3FB092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24C1-0680-4858-8274-7AC0ED23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56CD-F721-499F-A167-9CFB6025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EC81-5D23-4A63-B907-8AC3743E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9B83-F03E-48E4-B5E2-66EF4274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2D6D-B1DE-472D-A4E0-6604E46B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80F-AA54-4D2B-A1C7-0C6805F5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3A9-5D4C-49AF-8B61-B9FE8F90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4C1-7C24-45CD-AEF1-93C57AAC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2ED-6207-4F7A-B1AA-21CC1179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07A-163F-4904-84FF-F0A4D506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D3B7-BA57-4644-BFD0-2DEC8DF5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FF2-C9A0-46C2-95A1-9B78CEB3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1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AD7E-FF0A-47BE-8C84-9E62E4B503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87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29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132" name="Oval 29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30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135" name="Oval 30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31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138" name="Oval 31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32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141" name="Oval 32" descr=""/>
            <p:cNvPicPr/>
            <p:nvPr/>
          </p:nvPicPr>
          <p:blipFill>
            <a:blip r:embed="rId16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Oval 33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144" name="Oval 33" descr=""/>
            <p:cNvPicPr/>
            <p:nvPr/>
          </p:nvPicPr>
          <p:blipFill>
            <a:blip r:embed="rId17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Oval 34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147" name="Oval 34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35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150" name="Oval 35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36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153" name="Oval 36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94DE-B1F4-4FFB-A232-A7C9FEB5FF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images.amazon.com/images/P/0688099246.01.LZZZZZZZ.jpg" TargetMode="External"/><Relationship Id="rId3" Type="http://schemas.openxmlformats.org/officeDocument/2006/relationships/hyperlink" Target="http://images.amazon.com/images/P/0688099246.01.LZZZZZZZ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verdana"/>
              </a:rPr>
              <a:t>Genres and literatu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77120" cy="25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verdana"/>
              </a:rPr>
              <a:t>When you speak about genre and literature, </a:t>
            </a:r>
            <a:r>
              <a:rPr b="0" lang="en-US" sz="2000" spc="-1" strike="noStrike" u="sng">
                <a:solidFill>
                  <a:srgbClr val="6600ff"/>
                </a:solidFill>
                <a:uFillTx/>
                <a:latin typeface="verdana"/>
              </a:rPr>
              <a:t>genre means a category, or the type of writing style or forma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verdana"/>
              </a:rPr>
              <a:t>All categories of books or stories can be called eith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fiction</a:t>
            </a:r>
            <a:r>
              <a:rPr b="0" lang="en-US" sz="2800" spc="-1" strike="noStrike">
                <a:solidFill>
                  <a:srgbClr val="6600ff"/>
                </a:solidFill>
                <a:latin typeface="verdana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on-fic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Fic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made up story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n tell about things that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oul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happ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 read for fu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acters may be like real people or imagina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62360" y="180972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n-Fic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s facts that can be checked and prove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author is an expert on this informatio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verdana"/>
              </a:rPr>
              <a:t>Genre - Subcatego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lkta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antas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yste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oet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storical Fi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alistic Fi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ditional Litera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62360" y="180972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n-fi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formational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ow to” book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rts and crafts book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iograph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listic fi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an be based on a real stor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aracters act like real peo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aracter tries to solve a proble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ory could happen in real lif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me events are historically accura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aracter’s feelings and behaviors are like real lif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493640" cy="2133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125388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3"/>
          <a:stretch/>
        </p:blipFill>
        <p:spPr>
          <a:xfrm>
            <a:off x="7616880" y="2514600"/>
            <a:ext cx="13748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ntas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560" y="22093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imal characters may act like peop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acters may have special power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acters may be imaginary bein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tting may be in another time (futur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ually has a good vs. evil confli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y use scientific principles not yet available or discover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828800" cy="14619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354492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3544920" y="2567160"/>
            <a:ext cx="2055960" cy="1692000"/>
            <a:chOff x="3544920" y="2567160"/>
            <a:chExt cx="2055960" cy="1692000"/>
          </a:xfrm>
        </p:grpSpPr>
        <p:sp>
          <p:nvSpPr>
            <p:cNvPr id="214" name="Rectangle 7"/>
            <p:cNvSpPr/>
            <p:nvPr/>
          </p:nvSpPr>
          <p:spPr>
            <a:xfrm>
              <a:off x="3544920" y="2567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3544920" y="2567160"/>
              <a:ext cx="2055960" cy="16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5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6" name="Picture 12" descr="0525461221"/>
          <p:cNvPicPr/>
          <p:nvPr/>
        </p:nvPicPr>
        <p:blipFill>
          <a:blip r:embed="rId2"/>
          <a:stretch/>
        </p:blipFill>
        <p:spPr>
          <a:xfrm>
            <a:off x="7086600" y="0"/>
            <a:ext cx="177336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et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ge format may look different than other boo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y have rhythm (bea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y rhy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inative and crea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es describing or exciting word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lls a story in ve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457200" y="0"/>
            <a:ext cx="1515960" cy="18288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354492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10"/>
          <p:cNvGrpSpPr/>
          <p:nvPr/>
        </p:nvGrpSpPr>
        <p:grpSpPr>
          <a:xfrm>
            <a:off x="3544920" y="2567160"/>
            <a:ext cx="2055960" cy="1692000"/>
            <a:chOff x="3544920" y="2567160"/>
            <a:chExt cx="2055960" cy="1692000"/>
          </a:xfrm>
        </p:grpSpPr>
        <p:sp>
          <p:nvSpPr>
            <p:cNvPr id="222" name="Rectangle 7"/>
            <p:cNvSpPr/>
            <p:nvPr/>
          </p:nvSpPr>
          <p:spPr>
            <a:xfrm>
              <a:off x="3544920" y="2567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8"/>
            <p:cNvSpPr/>
            <p:nvPr/>
          </p:nvSpPr>
          <p:spPr>
            <a:xfrm>
              <a:off x="3544920" y="2567160"/>
              <a:ext cx="2055960" cy="16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5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4" name="Picture 11" descr=""/>
          <p:cNvPicPr/>
          <p:nvPr/>
        </p:nvPicPr>
        <p:blipFill>
          <a:blip r:embed="rId2"/>
          <a:stretch/>
        </p:blipFill>
        <p:spPr>
          <a:xfrm>
            <a:off x="6781680" y="2819520"/>
            <a:ext cx="1698840" cy="1987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ormati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lls facts that can be looked-up or prov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lls about real ev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acters have really liv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y have maps, diagrams and illustrations to explain the fa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thor is an expert on the subj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7238880" y="2895480"/>
            <a:ext cx="1486080" cy="1981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2"/>
          <a:stretch/>
        </p:blipFill>
        <p:spPr>
          <a:xfrm>
            <a:off x="30492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ditional Literat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ells about the great deeds of a person who </a:t>
            </a: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may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have liv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y exaggerate a person’s bravery or pow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obably a long ago sett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tory may be considered a part of the history and culture of a group of peop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gic may be used to solve a proble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 lesson can be learned from the sto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7191360" y="4648320"/>
            <a:ext cx="1428840" cy="19047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361008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0"/>
          <p:cNvGrpSpPr/>
          <p:nvPr/>
        </p:nvGrpSpPr>
        <p:grpSpPr>
          <a:xfrm>
            <a:off x="3610080" y="2606760"/>
            <a:ext cx="1925640" cy="1616040"/>
            <a:chOff x="3610080" y="2606760"/>
            <a:chExt cx="1925640" cy="1616040"/>
          </a:xfrm>
        </p:grpSpPr>
        <p:sp>
          <p:nvSpPr>
            <p:cNvPr id="234" name="Rectangle 7"/>
            <p:cNvSpPr/>
            <p:nvPr/>
          </p:nvSpPr>
          <p:spPr>
            <a:xfrm>
              <a:off x="3610080" y="260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>
              <a:off x="3610080" y="2606760"/>
              <a:ext cx="19256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408080"/>
                  </a:solidFill>
                  <a:uFillTx/>
                  <a:latin typeface="verdana"/>
                  <a:hlinkClick r:id="rId2"/>
                </a:rPr>
                <a:t>  </a:t>
              </a:r>
              <a:r>
                <a:rPr b="0" lang="en-US" sz="10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6" name="Picture 9" descr="06880992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76320"/>
            <a:ext cx="13971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21:41:11Z</dcterms:created>
  <dc:creator>dale</dc:creator>
  <dc:description/>
  <dc:language>en-US</dc:language>
  <cp:lastModifiedBy>Dale</cp:lastModifiedBy>
  <cp:lastPrinted>2004-04-29T03:51:19Z</cp:lastPrinted>
  <dcterms:modified xsi:type="dcterms:W3CDTF">2012-10-02T01:00:22Z</dcterms:modified>
  <cp:revision>15</cp:revision>
  <dc:subject/>
  <dc:title>Genres and literature</dc:title>
</cp:coreProperties>
</file>